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BBCF-78DB-4BC7-973C-E24BF590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767-4C52-4FDC-81C9-0222BA10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A59F-E6D6-40DF-A09C-DF60ABB6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07CE-3EA7-4ED5-A01C-E3D9291E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BB36-E5B6-4D5A-8E81-A10C133E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45D1-9996-4F12-B744-9E18FECA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668E-FB60-4C9D-9FE5-EBD53166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64E4-41C3-4115-8970-3BE0B7E0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CFC7-6514-43D6-B4DC-A9AB3244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5FB5-BE0B-4B2F-BF3F-411FBDBB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8095-0EE0-4C00-8EED-640D1F4C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FFD5-110D-4404-BD66-DF5959EC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CEB4-868C-494C-9F16-C3800833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7F59-5310-425E-9962-EB39E783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D383-6CC6-47A2-833F-107FCD97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8470-EFA7-4970-993A-E8329CA9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254A-9E96-440E-9BE0-184BAF03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74DE-74FD-4E44-8508-72184C92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36E-2212-4931-A1D4-EB409A0C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92E6-371B-422B-9061-D702F95A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5B7B-217B-4ADD-88D8-F21C1331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1B16-A40E-4BDE-9431-E2463480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2A99-CE76-4151-872E-7577EDAD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37B4-6BFF-43FF-B9EE-4771C641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BFAC-81BF-450F-9B86-D1F1E7E08E2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4F66-7993-486A-804E-E98B8F424EC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dding Bookreports to my wik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directions should help you post your bookreport on my wik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you join my wiki if you haven’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will see “join this wiki” at the top r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ce you’ve joined, go to the “Bookreport Coffee Shop” page on my wik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’re there, click on the “edit” tab that is on the top right side of the p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GLO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 to your glo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the bottom (toward the right) is a choice to “embed in your page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on th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n hit the “copy” button next to the long c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 back to the book report coffee shop page on my wiki where you’ve hit ed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on the little tv-looking thing that says embed widge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on “other” at the bottom of the screen that comes 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in the box for the code and hit “paste” (apple-v on mac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n hit SAVE on the edit bar of the wik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POWER P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ve your powerpoint on your desktop (don’t have to do this but it’s probably easiest this wa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 to the edit bar on the wiki page and click on the icon that looks like a picture and says “insert images or file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on the upload files blue underlined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ect your powerpoint from the deskt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 when it shows up on that box, click on it (as the directions say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hit save on the wiki edit b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6:50:57Z</dcterms:created>
  <dc:creator>Calvary</dc:creator>
  <dc:description/>
  <dc:language>en-US</dc:language>
  <cp:lastModifiedBy>Calvary</cp:lastModifiedBy>
  <dcterms:modified xsi:type="dcterms:W3CDTF">2009-11-12T20:26:35Z</dcterms:modified>
  <cp:revision>4</cp:revision>
  <dc:subject/>
  <dc:title>Adding Bookreports to my wiki</dc:title>
</cp:coreProperties>
</file>